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6418A-A3CF-4CCD-80C8-15D2B66B2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84622-AEE8-4F5E-A0E1-C46966FE2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4D406E-48E8-41FD-BC46-3518948DF8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6BD181-7E9F-4EE4-B34E-E814E95C95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ABD3B4-D3F5-43CA-8A7E-0B24984C4C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CEDB2C-24F6-4D2B-90ED-BA509E8721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13126F-D1BE-43D2-96E6-C7C5C569C4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38850F-CF96-4406-AD5F-16E90E6676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A63CCA-18D4-4CA4-A206-E553AC5A6E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7DA93D-FF4B-4F0C-A316-3103CF4505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12DFE7-C658-46D7-BDAB-85B2BC7029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8903F-2763-4B50-8664-10FD25D8F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60556-CE9B-42EC-A40C-D2662E4D9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1D117-0CA9-4310-AF03-E72F715D5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601CE-FE70-4CFB-AF5C-D9FF19FBC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AEEC5-D634-4349-8FA7-9CBDF3DF8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5BBC4-84A9-437B-99AC-A4905A95F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CED75-8EA1-4BFB-BFC3-A153A49F2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9192C-5AE0-4183-BC7E-AD97644CD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3240B-03D1-41E9-9D7B-A8C77BAB2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B38B7-CEC5-4282-9C58-FF36A0980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1C6F2-8040-4C1D-AC3E-3776F48C1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8E94A-D46B-4734-9C83-9D8A5172D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0B6EA-FE10-434F-9865-AB6C7E1CA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BE95C-5188-4CEF-B468-3BA674640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F7DED-1534-48F2-8AD0-25CB2FA09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6B06A5-B781-4CF0-B953-48F11F547E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C9E0D5-921C-4905-9437-964EAB5F1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57AB38-F1E7-4838-8A6C-5263F0A9F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3F019-51D5-460A-B4EC-9F75075FD1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82BBF7-E1EB-4679-93BF-3236C398F6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8196C-18AC-47A0-A3DD-8A228E001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3926A7-7F77-413D-9C24-AA1474605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F9D72-E684-4FEB-B777-389AAF856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140701-3348-48B9-9151-6A237FF8F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40980-6F08-4740-91C0-525A2446A6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D7964C-CC89-47F5-AD50-2B98414D00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708EFA-302D-44D8-9961-C03FC78402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C4AF29-79A9-4820-9DA8-980CF8CBCC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7952B7-D5ED-437A-A125-1DB9FA620E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A117F7-0611-49A6-A5F2-2A04BAD5D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8D18F2-D2D0-4C41-B91B-DC11F328A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65C67-6598-4B8B-9834-A81D09A9A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25D40D-D2DF-44E8-B5D5-6A1DC0053D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7C4F82-02BF-4389-8ED4-6392CB6957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F41538-C254-4C5F-8FA4-55EA0828E9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60F19A-2517-4C3B-AC61-EE366F228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B5F59-EDAA-4E7E-9862-F328ED140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DA3D2C-58C8-4393-A329-2B5447498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2C4A70-F845-4600-9D6F-A107FA2C2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DCC652-186C-4830-AD57-5E77622AAD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59B9F2-5996-4DCD-A6BF-CA0D82E7FC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997DC1-4ABA-4511-9CA8-9BF949E431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F79D3-6806-4592-AA12-F0975531E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B42370-3344-4F86-8D75-D70FA26B38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F8034A-D28B-4E41-8B13-406BC49645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A476FD-F7A3-4005-90BB-8D865345F8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D7E57A-F824-4389-AFBB-BC8D5D1C29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12929E-82C0-4EC0-B76B-8B64FB08D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F67F78-06AC-456F-A46E-13281D761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3780C-E807-4CB6-B6BE-E5E8A989E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3EFF7E-744F-4BCC-A0CA-399ED9DA8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021B1-1664-4A68-AF9F-05903B6B5E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FBE921-17E4-4AD1-A147-F1DBC00379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CCFA3-BE22-4ACC-9B3F-DFB810B57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9178B1-6A1B-4B45-AF9F-AE5E108826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F9E559-7BF9-48C4-B05C-4C5EB08C9A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E6055B-6350-454C-BBC1-91E5C79CF2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A8C70D-FC5F-4F4C-9AF6-F81688BA0A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1C9510-6FAA-4E1A-B3A3-B92C4976C9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8A7730-34F1-4DE5-98AF-F913867D75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123BD3-AEA4-46F4-A491-86962F508F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0ED14-FFE8-4E6F-9FEA-4C7BDD9788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A99DEC-DE65-4E13-A42D-BB1FB28DC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342367-4146-44F3-801C-5CE6DFD0F3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4DADC-584B-4709-8185-90BB04B78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F0B33D-9A44-4906-B368-4E16E72831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59B3D6-1100-4ECD-B4B2-7953ED1C22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D14732-B734-40D2-AFCA-B2BD47D194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4CDB2E-496D-490F-81A4-70AFBE8A32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75F20C-5F24-45AA-83AD-F1FB91A7A9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6F626A-AD6E-42DB-BF6A-EADA689AD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775FF2-329A-4CED-96FB-3623ACEDA3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542C33-CF1A-4075-AFC6-3630363437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6001AB-21F4-41C0-BBE9-45EF669FCE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E3792C-7CFA-48B2-B991-7A861EEBEB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2AAA6-2F37-4192-97CB-45BD219EE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AA1B3D-9A23-4B3A-883E-90F674C87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98039-B19C-456F-8830-FA2DCD089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64F93E-531C-4C8A-BE22-7B139C6364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71075E-11DA-4F54-BD81-4CFFB78CDB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FCAFF7-590D-4AF1-98BF-B2DCFEC076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C45AFC-23E4-4B5F-8AA2-9F2099642D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CB17B2-5ADB-4320-A7A7-2D075DA74D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399DDE-2AF0-4871-B58F-0FEC436E10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D6EA1E-67FE-4FA7-999B-A253B06B81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8FBF36-83A9-4732-B6A2-0846873AD6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70322-F405-46C1-8377-D4DCF9DCD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48E43B-C925-4C20-9454-D34FC3A6AB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D7E32C-552D-496D-9F9C-166CB92C23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3BA1F0-0198-4803-AF08-A5848869EA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D89C67-51E6-4BC7-8742-BFB82F6E38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E39569-7761-4050-8AC9-BE8D1777E0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4A5118-1CE1-4882-B3E3-137F4F4A94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1EFD32-E4C9-4C8A-9267-9EF392AE75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43063B-D722-433E-B369-C8A60B0C2B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82D501-2859-4367-B788-06EDE913AA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90C5B7-D3C1-411E-8749-24142528F1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C21D-9597-499A-B340-730581212A50}"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58DF-3D49-488F-B43F-615FA915E9C4}"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994E-81FF-4478-8FA6-C0DDB0AED55F}"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Click to edit the outline text format</a:t>
            </a:r>
            <a:endParaRPr b="0" lang="en-US" sz="3200" spc="-1" strike="noStrike">
              <a:solidFill>
                <a:srgbClr val="dbf5f9"/>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cond Outline Level</a:t>
            </a:r>
            <a:endParaRPr b="0" lang="en-US" sz="3200" spc="-1" strike="noStrike">
              <a:solidFill>
                <a:srgbClr val="dbf5f9"/>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Third Outline Level</a:t>
            </a:r>
            <a:endParaRPr b="0" lang="en-US" sz="3200" spc="-1" strike="noStrike">
              <a:solidFill>
                <a:srgbClr val="dbf5f9"/>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ourth Outline Level</a:t>
            </a:r>
            <a:endParaRPr b="0" lang="en-US" sz="3200" spc="-1" strike="noStrike">
              <a:solidFill>
                <a:srgbClr val="dbf5f9"/>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ifth Outline Level</a:t>
            </a:r>
            <a:endParaRPr b="0" lang="en-US" sz="3200" spc="-1" strike="noStrike">
              <a:solidFill>
                <a:srgbClr val="dbf5f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ixth Outline Level</a:t>
            </a:r>
            <a:endParaRPr b="0" lang="en-US" sz="3200" spc="-1" strike="noStrike">
              <a:solidFill>
                <a:srgbClr val="dbf5f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venth Outline Level</a:t>
            </a:r>
            <a:endParaRPr b="0" lang="en-US" sz="3200" spc="-1" strike="noStrike">
              <a:solidFill>
                <a:srgbClr val="dbf5f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f5f9"/>
                </a:solidFill>
                <a:latin typeface="Franklin Gothic Medium"/>
              </a:rPr>
              <a:t>Click to edit the title text format</a:t>
            </a:r>
            <a:endParaRPr b="0" lang="en-US" sz="3600" spc="-1" strike="noStrike">
              <a:solidFill>
                <a:srgbClr val="dbf5f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CBD3-5A69-4E69-AEB3-020109C4333F}"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CB97-CA06-4443-9FDA-60071ACF48CC}"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7A6F-7DF0-4C3F-B8A0-F2EAA93BE364}"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C2E6-3DC7-44C9-9BB2-3D89EE3AA832}"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4C67-6051-425A-AAB5-EA7AE3899D81}"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1727-AE72-4A4A-B654-0518CE6F2E0F}"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2520" y="4761000"/>
            <a:ext cx="8663040" cy="1322280"/>
          </a:xfrm>
          <a:prstGeom prst="rect">
            <a:avLst/>
          </a:prstGeom>
          <a:ln w="0">
            <a:noFill/>
          </a:ln>
        </p:spPr>
      </p:pic>
      <p:sp>
        <p:nvSpPr>
          <p:cNvPr id="400" name="PlaceHolder 1"/>
          <p:cNvSpPr>
            <a:spLocks noGrp="1"/>
          </p:cNvSpPr>
          <p:nvPr>
            <p:ph type="subTitle"/>
          </p:nvPr>
        </p:nvSpPr>
        <p:spPr>
          <a:xfrm>
            <a:off x="5333760" y="5943600"/>
            <a:ext cx="3809880" cy="914400"/>
          </a:xfrm>
          <a:prstGeom prst="rect">
            <a:avLst/>
          </a:prstGeom>
          <a:noFill/>
          <a:ln w="0">
            <a:noFill/>
          </a:ln>
        </p:spPr>
        <p:txBody>
          <a:bodyPr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46c"/>
                </a:solidFill>
                <a:latin typeface="Franklin Gothic Book"/>
              </a:rPr>
              <a:t>Matt Johnson</a:t>
            </a:r>
            <a:endParaRPr b="0" lang="en-US" sz="2400" spc="-1" strike="noStrike">
              <a:solidFill>
                <a:srgbClr val="04617b"/>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46c"/>
                </a:solidFill>
                <a:latin typeface="Franklin Gothic Book"/>
              </a:rPr>
              <a:t>Barb Light</a:t>
            </a:r>
            <a:endParaRPr b="0" lang="en-US" sz="24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4" descr=""/>
          <p:cNvPicPr/>
          <p:nvPr/>
        </p:nvPicPr>
        <p:blipFill>
          <a:blip r:embed="rId1"/>
          <a:stretch/>
        </p:blipFill>
        <p:spPr>
          <a:xfrm>
            <a:off x="103320" y="450720"/>
            <a:ext cx="8894520" cy="1152720"/>
          </a:xfrm>
          <a:prstGeom prst="rect">
            <a:avLst/>
          </a:prstGeom>
          <a:ln w="0">
            <a:noFill/>
          </a:ln>
        </p:spPr>
      </p:pic>
      <p:sp>
        <p:nvSpPr>
          <p:cNvPr id="449" name=""/>
          <p:cNvSpPr txBox="1"/>
          <p:nvPr/>
        </p:nvSpPr>
        <p:spPr>
          <a:xfrm>
            <a:off x="304920" y="1553760"/>
            <a:ext cx="8686800" cy="4923000"/>
          </a:xfrm>
          <a:prstGeom prst="rect">
            <a:avLst/>
          </a:prstGeom>
          <a:noFill/>
          <a:ln w="0">
            <a:noFill/>
          </a:ln>
        </p:spPr>
        <p:txBody>
          <a:bodyPr anchor="t">
            <a:normAutofit fontScale="89000"/>
          </a:bodyPr>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Progressives push education to try new ideas.</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raditionalists perfect the execution of ideas that work.</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ffective strategies from both sides survive and continue to be used.</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e power struggle between the two philosophies improves American education because they do challenge each other.</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hange occurs more rapidly due to the debate than if one philosophy was in constant control.</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03320" y="450720"/>
            <a:ext cx="8894520" cy="115272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a school principal meeting with a frustrated teacher. The teacher, who has a progressive approach, works closely with a staunch traditionalist. Their philosophies are clashing and causing frustr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How do you handle the situ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pend the next 4 minutes exchanging ideas with someone near you.</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Title 1" descr=""/>
          <p:cNvPicPr/>
          <p:nvPr/>
        </p:nvPicPr>
        <p:blipFill>
          <a:blip r:embed="rId1"/>
          <a:stretch/>
        </p:blipFill>
        <p:spPr>
          <a:xfrm>
            <a:off x="103320" y="450720"/>
            <a:ext cx="8894520" cy="1152720"/>
          </a:xfrm>
          <a:prstGeom prst="rect">
            <a:avLst/>
          </a:prstGeom>
          <a:ln w="0">
            <a:noFill/>
          </a:ln>
        </p:spPr>
      </p:pic>
      <p:sp>
        <p:nvSpPr>
          <p:cNvPr id="45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a group of concerned parents. </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Matt is the administrator and he is meeting with you to address your concerns.</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NOT a pushy, angry mob. You respect Matt as a person and administrator and want to voice your concerns calmly in an orderly fashion.</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55"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103320" y="450720"/>
            <a:ext cx="8894520" cy="1152720"/>
          </a:xfrm>
          <a:prstGeom prst="rect">
            <a:avLst/>
          </a:prstGeom>
          <a:ln w="0">
            <a:noFill/>
          </a:ln>
        </p:spPr>
      </p:pic>
      <p:sp>
        <p:nvSpPr>
          <p:cNvPr id="45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e basics were sufficient education for you.</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n’t think the students should have to take “non academic classes” such as art, music, and computers.</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103320" y="450720"/>
            <a:ext cx="8894520" cy="1152720"/>
          </a:xfrm>
          <a:prstGeom prst="rect">
            <a:avLst/>
          </a:prstGeom>
          <a:ln w="0">
            <a:noFill/>
          </a:ln>
        </p:spPr>
      </p:pic>
      <p:sp>
        <p:nvSpPr>
          <p:cNvPr id="45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a:p>
            <a:pPr marL="343080" indent="-3430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n’t think the school should be spending so much money on technology?</a:t>
            </a:r>
            <a:endParaRPr b="0" lang="en-US" sz="3200" spc="-1" strike="noStrike">
              <a:solidFill>
                <a:srgbClr val="04617b"/>
              </a:solidFill>
              <a:latin typeface="Franklin Gothic Book"/>
            </a:endParaRPr>
          </a:p>
          <a:p>
            <a:pPr marL="343080" indent="-3430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re asking yourself questions like:</a:t>
            </a:r>
            <a:endParaRPr b="0" lang="en-US" sz="3200" spc="-1" strike="noStrike">
              <a:solidFill>
                <a:srgbClr val="04617b"/>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Do the students really need a web page design class? Is blogging really a type of English assignment? Why would the school want every high school student to have a computer to use at school?</a:t>
            </a:r>
            <a:endParaRPr b="0" lang="en-US" sz="3200" spc="-1" strike="noStrike">
              <a:solidFill>
                <a:srgbClr val="04617b"/>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103320" y="450720"/>
            <a:ext cx="8894520" cy="1152720"/>
          </a:xfrm>
          <a:prstGeom prst="rect">
            <a:avLst/>
          </a:prstGeom>
          <a:ln w="0">
            <a:noFill/>
          </a:ln>
        </p:spPr>
      </p:pic>
      <p:sp>
        <p:nvSpPr>
          <p:cNvPr id="46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in favor of existing and even more technology educ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would like to see every teacher using technology with students.</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e 1" descr=""/>
          <p:cNvPicPr/>
          <p:nvPr/>
        </p:nvPicPr>
        <p:blipFill>
          <a:blip r:embed="rId1"/>
          <a:stretch/>
        </p:blipFill>
        <p:spPr>
          <a:xfrm>
            <a:off x="103320" y="450720"/>
            <a:ext cx="8894520" cy="1152720"/>
          </a:xfrm>
          <a:prstGeom prst="rect">
            <a:avLst/>
          </a:prstGeom>
          <a:ln w="0">
            <a:noFill/>
          </a:ln>
        </p:spPr>
      </p:pic>
      <p:sp>
        <p:nvSpPr>
          <p:cNvPr id="463"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like the state standards and view standardized assessment scores as the only valuable measure of the school. </a:t>
            </a:r>
            <a:endParaRPr b="0" lang="en-US" sz="3200" spc="-1" strike="noStrike">
              <a:solidFill>
                <a:srgbClr val="04617b"/>
              </a:solidFill>
              <a:latin typeface="Franklin Gothic Book"/>
            </a:endParaRPr>
          </a:p>
          <a:p>
            <a:pPr marL="335880" indent="-3358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here at this meeting because you always attend school meetings and you want to make sure that the school’s focus on teaching the state curriculum and scoring well on the MEAP and MME is maintained.</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103320" y="450720"/>
            <a:ext cx="8894520" cy="1152720"/>
          </a:xfrm>
          <a:prstGeom prst="rect">
            <a:avLst/>
          </a:prstGeom>
          <a:ln w="0">
            <a:noFill/>
          </a:ln>
        </p:spPr>
      </p:pic>
      <p:sp>
        <p:nvSpPr>
          <p:cNvPr id="465" name=""/>
          <p:cNvSpPr txBox="1"/>
          <p:nvPr/>
        </p:nvSpPr>
        <p:spPr>
          <a:xfrm>
            <a:off x="304920" y="1554120"/>
            <a:ext cx="8686800" cy="4525920"/>
          </a:xfrm>
          <a:prstGeom prst="rect">
            <a:avLst/>
          </a:prstGeom>
          <a:noFill/>
          <a:ln w="0">
            <a:noFill/>
          </a:ln>
        </p:spPr>
        <p:txBody>
          <a:bodyPr anchor="t">
            <a:normAutofit fontScale="98000"/>
          </a:bodyPr>
          <a:p>
            <a:pPr marL="335880" indent="-335880">
              <a:lnSpc>
                <a:spcPct val="90000"/>
              </a:lnSpc>
              <a:spcBef>
                <a:spcPts val="751"/>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Franklin Gothic Book"/>
              </a:rPr>
              <a:t>You are very concerned with Mrs. Nelson, your son’s teacher, because she is using a lot of group work. Your son is a strong student and really likes what the teacher is doing, but you worry that weaker students in your son’s group might be taking advantage of his academic ability. After all, your A+ student should not be helping other kids get good grades – he may have to compete with those other kids for a job someday. School is all about competition for grades, right?</a:t>
            </a:r>
            <a:endParaRPr b="0" lang="en-US" sz="30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33200" y="-36360"/>
            <a:ext cx="8864640" cy="1487160"/>
          </a:xfrm>
          <a:prstGeom prst="rect">
            <a:avLst/>
          </a:prstGeom>
          <a:ln w="0">
            <a:noFill/>
          </a:ln>
        </p:spPr>
      </p:pic>
      <p:sp>
        <p:nvSpPr>
          <p:cNvPr id="467" name=""/>
          <p:cNvSpPr txBox="1"/>
          <p:nvPr/>
        </p:nvSpPr>
        <p:spPr>
          <a:xfrm>
            <a:off x="304920" y="1554120"/>
            <a:ext cx="8686800" cy="4998960"/>
          </a:xfrm>
          <a:prstGeom prst="rect">
            <a:avLst/>
          </a:prstGeom>
          <a:noFill/>
          <a:ln w="0">
            <a:noFill/>
          </a:ln>
        </p:spPr>
        <p:txBody>
          <a:bodyPr anchor="t">
            <a:normAutofit fontScale="95000"/>
          </a:bodyPr>
          <a:p>
            <a:pPr marL="325800" indent="-325800">
              <a:lnSpc>
                <a:spcPct val="80000"/>
              </a:lnSpc>
              <a:spcBef>
                <a:spcPts val="751"/>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Franklin Gothic Book"/>
              </a:rPr>
              <a:t>Your mother is a neighbor to a family that has a kid in the same class as your son. You are here because you heard that the family would be here to complain about the teacher, Mrs. Nelson. You usually don’t get involved in school business, but felt you had to come in defense of Mrs. Nelson. You actually have never met Mrs. Nelson, but your son, who has spent the last 3 years hating school, suddenly goes to school willingly and talks nonstop at home about the things they do in Mrs. Nelson’s class. You are so grateful to Mrs. Nelson that you had to come tonight and speak in her defense if someone complains about her.</a:t>
            </a:r>
            <a:endParaRPr b="0" lang="en-US" sz="30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03320" y="450720"/>
            <a:ext cx="8894520" cy="1152720"/>
          </a:xfrm>
          <a:prstGeom prst="rect">
            <a:avLst/>
          </a:prstGeom>
          <a:ln w="0">
            <a:noFill/>
          </a:ln>
        </p:spPr>
      </p:pic>
      <p:sp>
        <p:nvSpPr>
          <p:cNvPr id="402" name=""/>
          <p:cNvSpPr txBox="1"/>
          <p:nvPr/>
        </p:nvSpPr>
        <p:spPr>
          <a:xfrm>
            <a:off x="304920" y="1554120"/>
            <a:ext cx="8686800" cy="1036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Please follow the instructions on the handout.</a:t>
            </a:r>
            <a:endParaRPr b="0" lang="en-US" sz="3200" spc="-1" strike="noStrike">
              <a:solidFill>
                <a:srgbClr val="04617b"/>
              </a:solidFill>
              <a:latin typeface="Franklin Gothic Book"/>
            </a:endParaRPr>
          </a:p>
        </p:txBody>
      </p:sp>
      <p:pic>
        <p:nvPicPr>
          <p:cNvPr id="403" name="Picture 2" descr=""/>
          <p:cNvPicPr/>
          <p:nvPr/>
        </p:nvPicPr>
        <p:blipFill>
          <a:blip r:embed="rId2"/>
          <a:srcRect l="4544" t="22904" r="3281" b="8066"/>
          <a:stretch/>
        </p:blipFill>
        <p:spPr>
          <a:xfrm>
            <a:off x="838080" y="2362320"/>
            <a:ext cx="7543800" cy="4236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103320" y="450720"/>
            <a:ext cx="8894520" cy="1152720"/>
          </a:xfrm>
          <a:prstGeom prst="rect">
            <a:avLst/>
          </a:prstGeom>
          <a:ln w="0">
            <a:noFill/>
          </a:ln>
        </p:spPr>
      </p:pic>
      <p:sp>
        <p:nvSpPr>
          <p:cNvPr id="46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have retired from teaching in this school. You have preschool grandkids that will enter the school in a few years. You are here out of curiosity and concern.</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103320" y="450720"/>
            <a:ext cx="8894520" cy="1152720"/>
          </a:xfrm>
          <a:prstGeom prst="rect">
            <a:avLst/>
          </a:prstGeom>
          <a:ln w="0">
            <a:noFill/>
          </a:ln>
        </p:spPr>
      </p:pic>
      <p:sp>
        <p:nvSpPr>
          <p:cNvPr id="471" name=""/>
          <p:cNvSpPr txBox="1"/>
          <p:nvPr/>
        </p:nvSpPr>
        <p:spPr>
          <a:xfrm>
            <a:off x="304920" y="1554120"/>
            <a:ext cx="8686800" cy="5075280"/>
          </a:xfrm>
          <a:prstGeom prst="rect">
            <a:avLst/>
          </a:prstGeom>
          <a:noFill/>
          <a:ln w="0">
            <a:noFill/>
          </a:ln>
        </p:spPr>
        <p:txBody>
          <a:bodyPr anchor="t">
            <a:normAutofit fontScale="97000"/>
          </a:bodyPr>
          <a:p>
            <a:pPr marL="332640" indent="-332640">
              <a:lnSpc>
                <a:spcPct val="80000"/>
              </a:lnSpc>
              <a:spcBef>
                <a:spcPts val="624"/>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4617b"/>
                </a:solidFill>
                <a:latin typeface="Franklin Gothic Book"/>
              </a:rPr>
              <a:t>Your daughter is in Mrs. Nelson’s 12</a:t>
            </a:r>
            <a:r>
              <a:rPr b="0" lang="en-US" sz="2500" spc="-1" strike="noStrike" baseline="30000">
                <a:solidFill>
                  <a:srgbClr val="04617b"/>
                </a:solidFill>
                <a:latin typeface="Franklin Gothic Book"/>
              </a:rPr>
              <a:t>th</a:t>
            </a:r>
            <a:r>
              <a:rPr b="0" lang="en-US" sz="2500" spc="-1" strike="noStrike">
                <a:solidFill>
                  <a:srgbClr val="04617b"/>
                </a:solidFill>
                <a:latin typeface="Franklin Gothic Book"/>
              </a:rPr>
              <a:t> grade English class. She is coming home with some new ideas about politics and life in general that concern you. You have raised her to be a conservative, but she is exploring more liberal thoughts. Yikes!! She also spends a lot of time working on a blog her class is doing. You have looked at the blog, which seems to be some sort of discussion forum where the students relate whatever literature they are studying to current world topics like the war and the environment. Scary flashes of the Vietnam era go through your mind and you fear your daughter may turn into some current version of a hippie flower child. In some ways you like the maturity your daughter is suddenly displaying. She now talks to you about current events and life, but you also have fears about what these kids are being exposed to in school.</a:t>
            </a:r>
            <a:endParaRPr b="0" lang="en-US" sz="25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103320" y="450720"/>
            <a:ext cx="8894520" cy="1152720"/>
          </a:xfrm>
          <a:prstGeom prst="rect">
            <a:avLst/>
          </a:prstGeom>
          <a:ln w="0">
            <a:noFill/>
          </a:ln>
        </p:spPr>
      </p:pic>
      <p:sp>
        <p:nvSpPr>
          <p:cNvPr id="47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nglish class should be about reading and writing, not all this blog stuff. </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 not understand how teachers or administrators can begin to think that doing “fun stuff on the computers” as your kids call it can be educational.</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103320" y="450720"/>
            <a:ext cx="8894520" cy="1152720"/>
          </a:xfrm>
          <a:prstGeom prst="rect">
            <a:avLst/>
          </a:prstGeom>
          <a:ln w="0">
            <a:noFill/>
          </a:ln>
        </p:spPr>
      </p:pic>
      <p:sp>
        <p:nvSpPr>
          <p:cNvPr id="405" name=""/>
          <p:cNvSpPr txBox="1"/>
          <p:nvPr/>
        </p:nvSpPr>
        <p:spPr>
          <a:xfrm>
            <a:off x="304920" y="1554120"/>
            <a:ext cx="8686800" cy="4525920"/>
          </a:xfrm>
          <a:prstGeom prst="rect">
            <a:avLst/>
          </a:prstGeom>
          <a:noFill/>
          <a:ln w="0">
            <a:noFill/>
          </a:ln>
        </p:spPr>
        <p:txBody>
          <a:bodyPr anchor="t">
            <a:normAutofit fontScale="96000"/>
          </a:bodyPr>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Demonstrate that both traditionalism and progressivism have contributed significantly to education.</a:t>
            </a:r>
            <a:endParaRPr b="0" lang="en-US" sz="3200" spc="-1" strike="noStrike">
              <a:solidFill>
                <a:srgbClr val="04617b"/>
              </a:solidFill>
              <a:latin typeface="Franklin Gothic Book"/>
            </a:endParaRPr>
          </a:p>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uccinctly synthesize the historical oscillation between traditional and progressive focused education.</a:t>
            </a:r>
            <a:endParaRPr b="0" lang="en-US" sz="3200" spc="-1" strike="noStrike">
              <a:solidFill>
                <a:srgbClr val="04617b"/>
              </a:solidFill>
              <a:latin typeface="Franklin Gothic Book"/>
            </a:endParaRPr>
          </a:p>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xamine the relevance of traditional and progressive philosophies in education today.</a:t>
            </a:r>
            <a:endParaRPr b="0" lang="en-US" sz="3200" spc="-1" strike="noStrike">
              <a:solidFill>
                <a:srgbClr val="04617b"/>
              </a:solidFill>
              <a:latin typeface="Franklin Gothic Book"/>
            </a:endParaRPr>
          </a:p>
          <a:p>
            <a:pPr marL="493560" indent="-493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a:p>
            <a:pPr marL="493560" indent="-493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98440" y="450720"/>
            <a:ext cx="8699400" cy="1152720"/>
          </a:xfrm>
          <a:prstGeom prst="rect">
            <a:avLst/>
          </a:prstGeom>
          <a:ln w="0">
            <a:noFill/>
          </a:ln>
        </p:spPr>
      </p:pic>
      <p:sp>
        <p:nvSpPr>
          <p:cNvPr id="407"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Disciplin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eacher authorit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Reading, writing, arithmetic</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08" name="Group 14"/>
          <p:cNvGrpSpPr/>
          <p:nvPr/>
        </p:nvGrpSpPr>
        <p:grpSpPr>
          <a:xfrm>
            <a:off x="6019920" y="-1828800"/>
            <a:ext cx="3656880" cy="7086600"/>
            <a:chOff x="6019920" y="-1828800"/>
            <a:chExt cx="3656880" cy="7086600"/>
          </a:xfrm>
        </p:grpSpPr>
        <p:grpSp>
          <p:nvGrpSpPr>
            <p:cNvPr id="409" name="Oval 6"/>
            <p:cNvGrpSpPr/>
            <p:nvPr/>
          </p:nvGrpSpPr>
          <p:grpSpPr>
            <a:xfrm>
              <a:off x="6019920" y="2638440"/>
              <a:ext cx="2537640" cy="2619360"/>
              <a:chOff x="6019920" y="2638440"/>
              <a:chExt cx="2537640" cy="2619360"/>
            </a:xfrm>
          </p:grpSpPr>
          <p:pic>
            <p:nvPicPr>
              <p:cNvPr id="410" name="Oval 6" descr=""/>
              <p:cNvPicPr/>
              <p:nvPr/>
            </p:nvPicPr>
            <p:blipFill>
              <a:blip r:embed="rId2"/>
              <a:stretch/>
            </p:blipFill>
            <p:spPr>
              <a:xfrm>
                <a:off x="6019920" y="2638440"/>
                <a:ext cx="2537640" cy="2619360"/>
              </a:xfrm>
              <a:prstGeom prst="rect">
                <a:avLst/>
              </a:prstGeom>
              <a:ln w="0">
                <a:noFill/>
              </a:ln>
            </p:spPr>
          </p:pic>
          <p:sp>
            <p:nvSpPr>
              <p:cNvPr id="411"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Straight Connector 8"/>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37">
                                  <p:stCondLst>
                                    <p:cond delay="0"/>
                                  </p:stCondLst>
                                  <p:childTnLst>
                                    <p:animMotion origin="layout" path="M -3.33333E-006 0 L 0.09809 0.05324 C 0.11875 0.06528 0.14948 0.07199 0.1816 0.07199 C 0.21823 0.07199 0.24757 0.06528 0.26823 0.05324 L 0.36667 0 E">
                                      <p:cBhvr>
                                        <p:cTn id="6" dur="2000" fill="hold"/>
                                        <p:tgtEl>
                                          <p:spTgt spid="4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298440" y="450720"/>
            <a:ext cx="8699400" cy="1152720"/>
          </a:xfrm>
          <a:prstGeom prst="rect">
            <a:avLst/>
          </a:prstGeom>
          <a:ln w="0">
            <a:noFill/>
          </a:ln>
        </p:spPr>
      </p:pic>
      <p:sp>
        <p:nvSpPr>
          <p:cNvPr id="414" name=""/>
          <p:cNvSpPr txBox="1"/>
          <p:nvPr/>
        </p:nvSpPr>
        <p:spPr>
          <a:xfrm>
            <a:off x="4038120" y="1599840"/>
            <a:ext cx="48769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Group instruc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Real world applications</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cience </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eacher developed materials</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cking in high schools</a:t>
            </a:r>
            <a:endParaRPr b="0" lang="en-US" sz="2800" spc="-1" strike="noStrike">
              <a:solidFill>
                <a:srgbClr val="04617b"/>
              </a:solidFill>
              <a:latin typeface="Franklin Gothic Book"/>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15" name="Group 12"/>
          <p:cNvGrpSpPr/>
          <p:nvPr/>
        </p:nvGrpSpPr>
        <p:grpSpPr>
          <a:xfrm>
            <a:off x="-360" y="-533880"/>
            <a:ext cx="3048480" cy="5791680"/>
            <a:chOff x="-360" y="-533880"/>
            <a:chExt cx="3048480" cy="5791680"/>
          </a:xfrm>
        </p:grpSpPr>
        <p:grpSp>
          <p:nvGrpSpPr>
            <p:cNvPr id="416" name="Oval 6"/>
            <p:cNvGrpSpPr/>
            <p:nvPr/>
          </p:nvGrpSpPr>
          <p:grpSpPr>
            <a:xfrm>
              <a:off x="514800" y="2639880"/>
              <a:ext cx="2533320" cy="2617920"/>
              <a:chOff x="514800" y="2639880"/>
              <a:chExt cx="2533320" cy="2617920"/>
            </a:xfrm>
          </p:grpSpPr>
          <p:pic>
            <p:nvPicPr>
              <p:cNvPr id="417" name="Oval 6" descr=""/>
              <p:cNvPicPr/>
              <p:nvPr/>
            </p:nvPicPr>
            <p:blipFill>
              <a:blip r:embed="rId2"/>
              <a:stretch/>
            </p:blipFill>
            <p:spPr>
              <a:xfrm>
                <a:off x="514800" y="2639880"/>
                <a:ext cx="2533320" cy="2617920"/>
              </a:xfrm>
              <a:prstGeom prst="rect">
                <a:avLst/>
              </a:prstGeom>
              <a:ln w="0">
                <a:noFill/>
              </a:ln>
            </p:spPr>
          </p:pic>
          <p:sp>
            <p:nvSpPr>
              <p:cNvPr id="418" name=""/>
              <p:cNvSpPr/>
              <p:nvPr/>
            </p:nvSpPr>
            <p:spPr>
              <a:xfrm>
                <a:off x="896040" y="3033000"/>
                <a:ext cx="176796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Straight Connector 8"/>
            <p:cNvSpPr/>
            <p:nvPr/>
          </p:nvSpPr>
          <p:spPr>
            <a:xfrm flipH="1" flipV="1">
              <a:off x="-360" y="-533880"/>
              <a:ext cx="1363320" cy="326484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12" dur="2000" fill="hold"/>
                                        <p:tgtEl>
                                          <p:spTgt spid="415"/>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37">
                                  <p:stCondLst>
                                    <p:cond delay="0"/>
                                  </p:stCondLst>
                                  <p:childTnLst>
                                    <p:animMotion origin="layout" path="M 3.33333E-006 3.7037E-006 L -0.09844 0.0949 C -0.11893 0.11666 -0.14983 0.12847 -0.18195 0.12847 C -0.21841 0.12847 -0.24775 0.11666 -0.26823 0.0949 L -0.36667 3.7037E-006 E">
                                      <p:cBhvr>
                                        <p:cTn id="16" dur="2000" fill="hold"/>
                                        <p:tgtEl>
                                          <p:spTgt spid="4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1" descr=""/>
          <p:cNvPicPr/>
          <p:nvPr/>
        </p:nvPicPr>
        <p:blipFill>
          <a:blip r:embed="rId1"/>
          <a:stretch/>
        </p:blipFill>
        <p:spPr>
          <a:xfrm>
            <a:off x="298440" y="450720"/>
            <a:ext cx="8699400" cy="1152720"/>
          </a:xfrm>
          <a:prstGeom prst="rect">
            <a:avLst/>
          </a:prstGeom>
          <a:ln w="0">
            <a:noFill/>
          </a:ln>
        </p:spPr>
      </p:pic>
      <p:sp>
        <p:nvSpPr>
          <p:cNvPr id="421"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putni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Back to rigor and teacher authorit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erious focus on math, science, and foreign language</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22" name="Group 5"/>
          <p:cNvGrpSpPr/>
          <p:nvPr/>
        </p:nvGrpSpPr>
        <p:grpSpPr>
          <a:xfrm>
            <a:off x="6019920" y="-1828800"/>
            <a:ext cx="3656880" cy="7086600"/>
            <a:chOff x="6019920" y="-1828800"/>
            <a:chExt cx="3656880" cy="7086600"/>
          </a:xfrm>
        </p:grpSpPr>
        <p:grpSp>
          <p:nvGrpSpPr>
            <p:cNvPr id="423" name="Oval 7"/>
            <p:cNvGrpSpPr/>
            <p:nvPr/>
          </p:nvGrpSpPr>
          <p:grpSpPr>
            <a:xfrm>
              <a:off x="6019920" y="2638440"/>
              <a:ext cx="2537640" cy="2619360"/>
              <a:chOff x="6019920" y="2638440"/>
              <a:chExt cx="2537640" cy="2619360"/>
            </a:xfrm>
          </p:grpSpPr>
          <p:pic>
            <p:nvPicPr>
              <p:cNvPr id="424" name="Oval 7" descr=""/>
              <p:cNvPicPr/>
              <p:nvPr/>
            </p:nvPicPr>
            <p:blipFill>
              <a:blip r:embed="rId2"/>
              <a:stretch/>
            </p:blipFill>
            <p:spPr>
              <a:xfrm>
                <a:off x="6019920" y="2638440"/>
                <a:ext cx="2537640" cy="2619360"/>
              </a:xfrm>
              <a:prstGeom prst="rect">
                <a:avLst/>
              </a:prstGeom>
              <a:ln w="0">
                <a:noFill/>
              </a:ln>
            </p:spPr>
          </p:pic>
          <p:sp>
            <p:nvSpPr>
              <p:cNvPr id="425"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Straight Connector 9"/>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37">
                                  <p:stCondLst>
                                    <p:cond delay="0"/>
                                  </p:stCondLst>
                                  <p:childTnLst>
                                    <p:animMotion origin="layout" path="M 0.36666 0 L 0.27291 0.06181 C 0.2533 0.07593 0.22378 0.08356 0.19323 0.08356 C 0.15816 0.08356 0.13021 0.07593 0.11059 0.06181 L 0.01666 0 E">
                                      <p:cBhvr>
                                        <p:cTn id="22" dur="2000" fill="hold"/>
                                        <p:tgtEl>
                                          <p:spTgt spid="422"/>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37">
                                  <p:stCondLst>
                                    <p:cond delay="0"/>
                                  </p:stCondLst>
                                  <p:childTnLst>
                                    <p:animMotion origin="layout" path="M -3.33333E-006 0 L 0.09809 0.05324 C 0.11875 0.06528 0.14948 0.07199 0.1816 0.07199 C 0.21823 0.07199 0.24757 0.06528 0.26823 0.05324 L 0.36667 0 E">
                                      <p:cBhvr>
                                        <p:cTn id="26" dur="2000" fill="hold"/>
                                        <p:tgtEl>
                                          <p:spTgt spid="4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298440" y="450720"/>
            <a:ext cx="8699400" cy="1152720"/>
          </a:xfrm>
          <a:prstGeom prst="rect">
            <a:avLst/>
          </a:prstGeom>
          <a:ln w="0">
            <a:noFill/>
          </a:ln>
        </p:spPr>
      </p:pic>
      <p:sp>
        <p:nvSpPr>
          <p:cNvPr id="428" name=""/>
          <p:cNvSpPr txBox="1"/>
          <p:nvPr/>
        </p:nvSpPr>
        <p:spPr>
          <a:xfrm>
            <a:off x="3580920" y="1599840"/>
            <a:ext cx="53341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 (Neoprogressiv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Civil Rights Movement</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Vietnam War</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equality</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29" name="Group 5"/>
          <p:cNvGrpSpPr/>
          <p:nvPr/>
        </p:nvGrpSpPr>
        <p:grpSpPr>
          <a:xfrm>
            <a:off x="380880" y="-360"/>
            <a:ext cx="3048120" cy="5791680"/>
            <a:chOff x="380880" y="-360"/>
            <a:chExt cx="3048120" cy="5791680"/>
          </a:xfrm>
        </p:grpSpPr>
        <p:grpSp>
          <p:nvGrpSpPr>
            <p:cNvPr id="430" name="Oval 7"/>
            <p:cNvGrpSpPr/>
            <p:nvPr/>
          </p:nvGrpSpPr>
          <p:grpSpPr>
            <a:xfrm>
              <a:off x="892440" y="3172320"/>
              <a:ext cx="2536560" cy="2619000"/>
              <a:chOff x="892440" y="3172320"/>
              <a:chExt cx="2536560" cy="2619000"/>
            </a:xfrm>
          </p:grpSpPr>
          <p:pic>
            <p:nvPicPr>
              <p:cNvPr id="431" name="Oval 7" descr=""/>
              <p:cNvPicPr/>
              <p:nvPr/>
            </p:nvPicPr>
            <p:blipFill>
              <a:blip r:embed="rId2"/>
              <a:stretch/>
            </p:blipFill>
            <p:spPr>
              <a:xfrm>
                <a:off x="892440" y="3172320"/>
                <a:ext cx="2536560" cy="2619000"/>
              </a:xfrm>
              <a:prstGeom prst="rect">
                <a:avLst/>
              </a:prstGeom>
              <a:ln w="0">
                <a:noFill/>
              </a:ln>
            </p:spPr>
          </p:pic>
          <p:sp>
            <p:nvSpPr>
              <p:cNvPr id="432" name=""/>
              <p:cNvSpPr/>
              <p:nvPr/>
            </p:nvSpPr>
            <p:spPr>
              <a:xfrm>
                <a:off x="1276200" y="3568680"/>
                <a:ext cx="176580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Straight Connector 9"/>
            <p:cNvSpPr/>
            <p:nvPr/>
          </p:nvSpPr>
          <p:spPr>
            <a:xfrm flipH="1" flipV="1">
              <a:off x="380880" y="-360"/>
              <a:ext cx="1362240" cy="326628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32" dur="2000" fill="hold"/>
                                        <p:tgtEl>
                                          <p:spTgt spid="429"/>
                                        </p:tgtEl>
                                      </p:cBhvr>
                                    </p:animMotion>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37">
                                  <p:stCondLst>
                                    <p:cond delay="0"/>
                                  </p:stCondLst>
                                  <p:childTnLst>
                                    <p:animMotion origin="layout" path="M 3.33333E-006 3.7037E-006 L -0.09844 0.0949 C -0.11893 0.11666 -0.14983 0.12847 -0.18195 0.12847 C -0.21841 0.12847 -0.24775 0.11666 -0.26823 0.0949 L -0.36667 3.7037E-006 E">
                                      <p:cBhvr>
                                        <p:cTn id="36" dur="2000" fill="hold"/>
                                        <p:tgtEl>
                                          <p:spTgt spid="4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298440" y="450720"/>
            <a:ext cx="8699400" cy="1152720"/>
          </a:xfrm>
          <a:prstGeom prst="rect">
            <a:avLst/>
          </a:prstGeom>
          <a:ln w="0">
            <a:noFill/>
          </a:ln>
        </p:spPr>
      </p:pic>
      <p:sp>
        <p:nvSpPr>
          <p:cNvPr id="435"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17b"/>
                </a:solidFill>
                <a:latin typeface="Franklin Gothic Book"/>
              </a:rPr>
              <a:t>A Nation at Ris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chool reform</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ummit meetings lead to state curriculum standards and standardized assessment</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36" name="Group 6"/>
          <p:cNvGrpSpPr/>
          <p:nvPr/>
        </p:nvGrpSpPr>
        <p:grpSpPr>
          <a:xfrm>
            <a:off x="6019920" y="-1828800"/>
            <a:ext cx="3656880" cy="7086600"/>
            <a:chOff x="6019920" y="-1828800"/>
            <a:chExt cx="3656880" cy="7086600"/>
          </a:xfrm>
        </p:grpSpPr>
        <p:grpSp>
          <p:nvGrpSpPr>
            <p:cNvPr id="437" name="Oval 8"/>
            <p:cNvGrpSpPr/>
            <p:nvPr/>
          </p:nvGrpSpPr>
          <p:grpSpPr>
            <a:xfrm>
              <a:off x="6019920" y="2638440"/>
              <a:ext cx="2537640" cy="2619360"/>
              <a:chOff x="6019920" y="2638440"/>
              <a:chExt cx="2537640" cy="2619360"/>
            </a:xfrm>
          </p:grpSpPr>
          <p:pic>
            <p:nvPicPr>
              <p:cNvPr id="438" name="Oval 8" descr=""/>
              <p:cNvPicPr/>
              <p:nvPr/>
            </p:nvPicPr>
            <p:blipFill>
              <a:blip r:embed="rId2"/>
              <a:stretch/>
            </p:blipFill>
            <p:spPr>
              <a:xfrm>
                <a:off x="6019920" y="2638440"/>
                <a:ext cx="2537640" cy="2619360"/>
              </a:xfrm>
              <a:prstGeom prst="rect">
                <a:avLst/>
              </a:prstGeom>
              <a:ln w="0">
                <a:noFill/>
              </a:ln>
            </p:spPr>
          </p:pic>
          <p:sp>
            <p:nvSpPr>
              <p:cNvPr id="439"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Straight Connector 10"/>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path" presetID="37">
                                  <p:stCondLst>
                                    <p:cond delay="0"/>
                                  </p:stCondLst>
                                  <p:childTnLst>
                                    <p:animMotion origin="layout" path="M 0.36666 0 L 0.27291 0.06181 C 0.2533 0.07593 0.22378 0.08356 0.19323 0.08356 C 0.15816 0.08356 0.13021 0.07593 0.11059 0.06181 L 0.01666 0 E">
                                      <p:cBhvr>
                                        <p:cTn id="42" dur="2000" fill="hold"/>
                                        <p:tgtEl>
                                          <p:spTgt spid="436"/>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path" presetID="37">
                                  <p:stCondLst>
                                    <p:cond delay="0"/>
                                  </p:stCondLst>
                                  <p:childTnLst>
                                    <p:animMotion origin="layout" path="M -3.33333E-006 0 L 0.09809 0.05324 C 0.11875 0.06528 0.14948 0.07199 0.1816 0.07199 C 0.21823 0.07199 0.24757 0.06528 0.26823 0.05324 L 0.36667 0 E">
                                      <p:cBhvr>
                                        <p:cTn id="46" dur="2000" fill="hold"/>
                                        <p:tgtEl>
                                          <p:spTgt spid="4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298440" y="450720"/>
            <a:ext cx="8699400" cy="1152720"/>
          </a:xfrm>
          <a:prstGeom prst="rect">
            <a:avLst/>
          </a:prstGeom>
          <a:ln w="0">
            <a:noFill/>
          </a:ln>
        </p:spPr>
      </p:pic>
      <p:sp>
        <p:nvSpPr>
          <p:cNvPr id="442" name=""/>
          <p:cNvSpPr txBox="1"/>
          <p:nvPr/>
        </p:nvSpPr>
        <p:spPr>
          <a:xfrm>
            <a:off x="3580920" y="1599840"/>
            <a:ext cx="53341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technolog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Call to embrace student creativity and imagin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leadership focus on collaboration</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43" name="Group 5"/>
          <p:cNvGrpSpPr/>
          <p:nvPr/>
        </p:nvGrpSpPr>
        <p:grpSpPr>
          <a:xfrm>
            <a:off x="-360" y="-533880"/>
            <a:ext cx="3048480" cy="5791680"/>
            <a:chOff x="-360" y="-533880"/>
            <a:chExt cx="3048480" cy="5791680"/>
          </a:xfrm>
        </p:grpSpPr>
        <p:grpSp>
          <p:nvGrpSpPr>
            <p:cNvPr id="444" name="Oval 7"/>
            <p:cNvGrpSpPr/>
            <p:nvPr/>
          </p:nvGrpSpPr>
          <p:grpSpPr>
            <a:xfrm>
              <a:off x="514800" y="2639880"/>
              <a:ext cx="2533320" cy="2617920"/>
              <a:chOff x="514800" y="2639880"/>
              <a:chExt cx="2533320" cy="2617920"/>
            </a:xfrm>
          </p:grpSpPr>
          <p:pic>
            <p:nvPicPr>
              <p:cNvPr id="445" name="Oval 7" descr=""/>
              <p:cNvPicPr/>
              <p:nvPr/>
            </p:nvPicPr>
            <p:blipFill>
              <a:blip r:embed="rId2"/>
              <a:stretch/>
            </p:blipFill>
            <p:spPr>
              <a:xfrm>
                <a:off x="514800" y="2639880"/>
                <a:ext cx="2533320" cy="2617920"/>
              </a:xfrm>
              <a:prstGeom prst="rect">
                <a:avLst/>
              </a:prstGeom>
              <a:ln w="0">
                <a:noFill/>
              </a:ln>
            </p:spPr>
          </p:pic>
          <p:sp>
            <p:nvSpPr>
              <p:cNvPr id="446" name=""/>
              <p:cNvSpPr/>
              <p:nvPr/>
            </p:nvSpPr>
            <p:spPr>
              <a:xfrm>
                <a:off x="896040" y="3033000"/>
                <a:ext cx="176796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Straight Connector 9"/>
            <p:cNvSpPr/>
            <p:nvPr/>
          </p:nvSpPr>
          <p:spPr>
            <a:xfrm flipH="1" flipV="1">
              <a:off x="-360" y="-533880"/>
              <a:ext cx="1363320" cy="326484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52" dur="2000" fill="hold"/>
                                        <p:tgtEl>
                                          <p:spTgt spid="4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2:24:34Z</dcterms:created>
  <dc:creator>Administrator</dc:creator>
  <dc:description/>
  <dc:language>en-US</dc:language>
  <cp:lastModifiedBy>Cindy</cp:lastModifiedBy>
  <dcterms:modified xsi:type="dcterms:W3CDTF">2009-09-26T01:12:32Z</dcterms:modified>
  <cp:revision>39</cp:revision>
  <dc:subject/>
  <dc:title>Chapter 2</dc:title>
</cp:coreProperties>
</file>